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pct" ContentType="image/x-pict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1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12.png" ContentType="image/png"/>
  <Override PartName="/ppt/media/image9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jpeg" ContentType="image/jpeg"/>
  <Override PartName="/ppt/media/image29.pct" ContentType="image/x-pict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FE18-9C12-495D-912C-6A32294F1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B34C-29EC-4087-BF75-5259ABA70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C2C6-85D4-46C6-ACAF-079637364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3327-67AB-440F-BE9C-7F676CE75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1BDE-BA47-4DC3-A9A5-D3A2B0CF8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0FA1-4DFF-4B8A-B2F3-9789C7F7C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A7C3-C619-4E17-9EF6-F529D8446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D985-BBA6-40CE-AEF1-12DBB8DF5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6926-F241-4E4A-8701-CF58DCFA4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F7A9-3E77-465F-B25A-CAA3F3CFB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4676-D640-41BE-B37E-7FDCE64B7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CCD6-8D0D-407C-B02C-D7CC511F3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8015-C9EF-4BD0-98B8-04B1F3E39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DB06-76C6-40A3-A0E5-42FF544BB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EF96-3AD7-4FE2-AFED-FB0490CF2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DAE4-66A5-41A0-A2ED-F3395A8AA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1C06-6D3A-477D-BA2C-2245ACCCE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066-F721-4C47-A8B1-8922275B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919-2959-4707-99B3-65CE105C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E2F-9DCD-40D5-A097-8C83A508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3D8-F1B7-487A-B754-4CBB67C4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2151-1796-4939-8182-994BBF63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8562-F9DA-4455-A6E9-A4F6A7EB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92E8-1D93-4703-9DFD-3E3D40E6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1543-63A2-400C-A383-8C05A261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06AF-F4B8-458E-BF9B-F1144603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D526-A122-4FBF-A18A-4B78FF1D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180A-1E75-44AC-904B-23690F60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74C-6BEE-40D8-B611-ACBDB9BF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C5E3-2C13-40F4-AF96-2664EB05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85AA-AE01-4E79-90E6-31EC4078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0F3D-C1AF-4F53-824D-B1FC95F4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6367-CFD7-4AD3-AAC4-1BEF0412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5B35-9BB2-4A40-ABAC-04CFAC78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95C-6341-4776-98C1-78EE3D0F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642-9B61-45B6-8DF2-1B94CB59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811-5472-4384-92D2-F3F87A2E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121-2198-4086-86DC-65C95E3E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04A-FBE2-4823-AA30-7307B0B2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AD0-3862-4D8F-AF6D-F55B4D3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35F-762A-4BA1-91C2-E498E75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18C8-EAEE-497F-A809-400008D3A04F}" type="datetime">
              <a:rPr b="0" lang="en-US" sz="1400" spc="-1" strike="noStrike">
                <a:solidFill>
                  <a:srgbClr val="4824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FEFC-4729-452A-B8E0-5878BEF4EC7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E09E-5222-4498-9D23-93B11B873E69}" type="datetime">
              <a:rPr b="0" lang="en-US" sz="1400" spc="-1" strike="noStrike">
                <a:solidFill>
                  <a:srgbClr val="4824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0C3A-9C0C-4C5A-AD75-6CFA3DF8705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4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hyperlink" Target="http://en.wikipedia.org/wiki/Halakha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Purple Wall.jpg"/>
          <p:cNvPicPr/>
          <p:nvPr/>
        </p:nvPicPr>
        <p:blipFill>
          <a:blip r:embed="rId2"/>
          <a:stretch/>
        </p:blipFill>
        <p:spPr>
          <a:xfrm>
            <a:off x="0" y="0"/>
            <a:ext cx="7162920" cy="5372280"/>
          </a:xfrm>
          <a:prstGeom prst="rect">
            <a:avLst/>
          </a:prstGeom>
          <a:ln w="0">
            <a:noFill/>
          </a:ln>
        </p:spPr>
      </p:pic>
      <p:pic>
        <p:nvPicPr>
          <p:cNvPr id="95" name="Title 1" descr=""/>
          <p:cNvPicPr/>
          <p:nvPr/>
        </p:nvPicPr>
        <p:blipFill>
          <a:blip r:embed="rId3"/>
          <a:stretch/>
        </p:blipFill>
        <p:spPr>
          <a:xfrm>
            <a:off x="85680" y="5175360"/>
            <a:ext cx="6327720" cy="847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560" y="5952600"/>
            <a:ext cx="601956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594720"/>
            <a:ext cx="5943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BB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9" descr="rabbi.jpg"/>
          <p:cNvPicPr/>
          <p:nvPr/>
        </p:nvPicPr>
        <p:blipFill>
          <a:blip r:embed="rId4"/>
          <a:stretch/>
        </p:blipFill>
        <p:spPr>
          <a:xfrm>
            <a:off x="6553080" y="13716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Happy.jpg"/>
          <p:cNvPicPr/>
          <p:nvPr/>
        </p:nvPicPr>
        <p:blipFill>
          <a:blip r:embed="rId5"/>
          <a:stretch/>
        </p:blipFill>
        <p:spPr>
          <a:xfrm>
            <a:off x="4724280" y="4724280"/>
            <a:ext cx="268128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4920" y="3871080"/>
            <a:ext cx="5943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dcdb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920" y="4172760"/>
            <a:ext cx="5943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dcdb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04920" y="4477680"/>
            <a:ext cx="5943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dcdb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“the fulfillment of a commandme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first commandment of the Torah: “Be fruitful and multiply” as it related to marri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the wedding symbolizes the transition from the basic Jewish institution of home and to the responsibility for the welfare of the commun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57200" y="60087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beli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6840" y="1447920"/>
            <a:ext cx="708660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memorates the Exodus from Egy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elebrated for 7-8 days, usually over E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reads and grains are avoided during this   holi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Jewish law prevents people going to work or school during the first two and last two days of Pass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8120" y="0"/>
            <a:ext cx="3125880" cy="2060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28600" y="4572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5929" dir="2028877" blurRad="0" rotWithShape="0">
                    <a:srgbClr val="9999ff"/>
                  </a:outerShdw>
                </a:effectLst>
                <a:latin typeface="Arial Black"/>
              </a:rPr>
              <a:t>Religious Celebration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5929" dir="202887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609480"/>
            <a:ext cx="7543800" cy="61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4824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sh Hashan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wish New Ye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ws make resolutions and reflect on the                     past ye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ws begin making mental preparations for Yom Kipp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Worship takes place in the synagogu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4824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086600" y="4038480"/>
            <a:ext cx="18892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152280"/>
            <a:ext cx="6172200" cy="70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4824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m Kipp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wish day of atone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a day of fasting and repentan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takes place in late September or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arly Octob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most Jews take off from work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scho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starts the evening before 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ay it is listed on the Secular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lend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705720" y="3276720"/>
            <a:ext cx="1674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7010280" cy="78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4824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anukk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festival of light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commemorates the rededication of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emple of Jerusale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the menorah represents the one day’s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y of oil that lasted the Jews eight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ays during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ir fight against 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eek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celebrated by lighting candles, playing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ames for chocolate coins, eating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tkes, and the exchange of gifts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ngst immediate family memb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973920" y="0"/>
            <a:ext cx="2170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brief summary of your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s for student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grading rubric for assess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shbane, M. (2011, Sept 22). The life cycle of holiness. Retrieved from, http://scheinerman.net/judaism/Rituals/index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ch, T. (2011). A Gentile’s guide to the Jewish Holidays. Judaism 101. Retrieved November 1, 2011 from, http://www.jewfaq.org/holidayg.ht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Woman.jpg"/>
          <p:cNvPicPr/>
          <p:nvPr/>
        </p:nvPicPr>
        <p:blipFill>
          <a:blip r:embed="rId2"/>
          <a:stretch/>
        </p:blipFill>
        <p:spPr>
          <a:xfrm>
            <a:off x="3200400" y="609480"/>
            <a:ext cx="990720" cy="10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Title 2" descr=""/>
          <p:cNvPicPr/>
          <p:nvPr/>
        </p:nvPicPr>
        <p:blipFill>
          <a:blip r:embed="rId3"/>
          <a:stretch/>
        </p:blipFill>
        <p:spPr>
          <a:xfrm>
            <a:off x="-85680" y="3548160"/>
            <a:ext cx="8315280" cy="277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Wailing Wall.jpg"/>
          <p:cNvPicPr/>
          <p:nvPr/>
        </p:nvPicPr>
        <p:blipFill>
          <a:blip r:embed="rId4"/>
          <a:stretch/>
        </p:blipFill>
        <p:spPr>
          <a:xfrm>
            <a:off x="4419720" y="609480"/>
            <a:ext cx="137952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18" descr="Jews.jpg"/>
          <p:cNvPicPr/>
          <p:nvPr/>
        </p:nvPicPr>
        <p:blipFill>
          <a:blip r:embed="rId5"/>
          <a:stretch/>
        </p:blipFill>
        <p:spPr>
          <a:xfrm>
            <a:off x="4419720" y="1676520"/>
            <a:ext cx="1371600" cy="98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19" descr="Whitehouse.jpg"/>
          <p:cNvPicPr/>
          <p:nvPr/>
        </p:nvPicPr>
        <p:blipFill>
          <a:blip r:embed="rId6"/>
          <a:stretch/>
        </p:blipFill>
        <p:spPr>
          <a:xfrm>
            <a:off x="3200400" y="1752480"/>
            <a:ext cx="106848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significance of Juda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what Judaism means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a brief overview of what you’ll cover in your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04560" y="1609560"/>
            <a:ext cx="739116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word Torah is Hebrew for ‘teaching’ or ‘law’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irst five books of the Bible are called the Tora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rah can also refer to all Jewish law and teach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es wrote the Tora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orah rete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od’s creation of the wor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selection and growth of the family of Abraham and Sara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exile and redemption from Egypt of that “family –become-nation” known as Isra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srael’s wanderings through the desert until they return to the land of Cana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srael’s covenanted relationship with Go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od’s  rules for governing a just society 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od’s rules for establishing appropriate worship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SzPct val="16928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SzPct val="19357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timeline of the important historic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Group 85" descr=""/>
          <p:cNvPicPr/>
          <p:nvPr/>
        </p:nvPicPr>
        <p:blipFill>
          <a:blip r:embed="rId4"/>
          <a:stretch/>
        </p:blipFill>
        <p:spPr>
          <a:xfrm>
            <a:off x="384120" y="3206880"/>
            <a:ext cx="8375760" cy="245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061640" y="1766880"/>
            <a:ext cx="7769160" cy="33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wish ritual and religious observances are grounded in Jewish Law,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Halakhah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“the path one walks”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w are the three most common Jewish practices ob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t Mil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 Mitzv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zv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85800" y="59324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isit Rabbi Scheinerman’s Judaism website to discover other Jewish practic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061640" y="1766520"/>
            <a:ext cx="7769160" cy="29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“Covenant of Circumc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eremony confirms the transition of the male infant from being a child of Adam, to a member of the Jewish people thus entering the “covenant of Abraham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the birth of a male child, circumcision can be expected before 8 days has expir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457200" y="60087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3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“son of the commandmen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youth, a boy will not formally be a member of the Halakhic community until he turns thirt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eremony bestows full responsibility and devotion on learning the Tora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ceremony for girl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t mitzva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eaning “daughter of the commandments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57200" y="60087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6:30:17Z</dcterms:created>
  <dc:creator/>
  <dc:description/>
  <dc:language>en-US</dc:language>
  <cp:lastModifiedBy>Ryan Rafacz</cp:lastModifiedBy>
  <dcterms:modified xsi:type="dcterms:W3CDTF">2011-11-01T22:14:4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729990</vt:lpwstr>
  </property>
</Properties>
</file>